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91FBC-B27C-457A-B0D0-9EFC11DCE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16149-1754-431B-8C93-B1E882E3E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E106D-CE44-4D8D-ADED-9BEFF49DF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5BC37-B496-46B1-8401-C904E6EE95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21238-DB71-479C-9AD8-0198C6AEE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B0609-7098-4E42-8A8B-C508D5065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A79C2-9555-486F-9373-4EB3FC74B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758E6-0E77-4E4F-89A1-A5B9DCA0F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D92AC-BEB0-4DBC-A44D-258EF768D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3A447-CC9A-4DEA-85CD-DB19B654E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3305D-A89B-43E9-9B58-B0D8AAD33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279BA-3433-4B18-9FC8-B955005E7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http://rds.yahoo.com/S=96062857/K=medical/v=2/SID=e/l=II/R=397/SS=i/OID=68c644398765b1b0/SIG=1hr2p4h9p/EXP=1104428561/*-http%3A//images.search.yahoo.com/search/images/view?back=http%3A%2F%2Fimages.search.yahoo.com%2Fsearch%2Fimages%3Fp%3Dmedical%26toggle%3D1%26ei%3DUTF-8%26imgsz%3Dall%26fr%3DFP-tab-img-t-192%26b%3D381&amp;h=193&amp;w=206&amp;imgcurl=www.workpartners.com%2Fimages%2Fphoto-medical-services.jpg&amp;imgurl=www.workpartners.com%2Fimages%2Fphoto-medical-services.jpg&amp;size=11.0kB&amp;name=photo-medical-services.jpg&amp;rcurl=http%3A%2F%2Fwww.workpartners.com%2Fmedical-services.htm&amp;rurl=http%3A%2F%2Fwww.workpartners.com%2Fmedical-services.htm&amp;p=medical&amp;type=jpeg&amp;no=397&amp;tt=1,483,666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448080" y="63435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933960" y="634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7E83-3866-4402-9525-E4DB6B864745}" type="slidenum">
              <a:rPr b="0" lang="en-US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86080" y="1219320"/>
            <a:ext cx="727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228600"/>
            <a:ext cx="73152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37160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1295280"/>
            <a:ext cx="0" cy="45720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09480"/>
            <a:ext cx="137160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371600" cy="6094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6720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6320" y="434880"/>
            <a:ext cx="1066680" cy="32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3200400"/>
            <a:ext cx="7238880" cy="1981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92a7d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47920"/>
            <a:ext cx="9144000" cy="1752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738fc6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33480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1676520"/>
            <a:ext cx="602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18148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8160" y="5638680"/>
            <a:ext cx="1714320" cy="766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5181480"/>
            <a:ext cx="5105520" cy="13716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5181480"/>
            <a:ext cx="213336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7400" y="464832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HHS bird logo"/>
          <p:cNvPicPr/>
          <p:nvPr/>
        </p:nvPicPr>
        <p:blipFill>
          <a:blip r:embed="rId6"/>
          <a:stretch/>
        </p:blipFill>
        <p:spPr>
          <a:xfrm>
            <a:off x="8477280" y="5829480"/>
            <a:ext cx="51444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Regional Preferred Provider Organization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 substantive changes to application, revisions made to facilitate CMS review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tandardized format for access info, including standards &amp; alternate acces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tandardized format for Essential Hospital designations &amp; supporting factor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49A00-E8CD-43B0-9C2F-7D737E91DD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Regional Preferred Provider Organization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cess standards to be submitted in chart and with more detai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cess Narrative and Access Pl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oint Enterprise Applicant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AB8BF-7781-4298-84AE-182FC678FD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15:25:51Z</dcterms:created>
  <dc:creator>blebowitz</dc:creator>
  <dc:description/>
  <dc:language>en-US</dc:language>
  <cp:lastModifiedBy>CMS</cp:lastModifiedBy>
  <dcterms:modified xsi:type="dcterms:W3CDTF">2006-01-25T21:44:2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65609730</vt:r8>
  </property>
  <property fmtid="{D5CDD505-2E9C-101B-9397-08002B2CF9AE}" pid="3" name="_AuthorEmail">
    <vt:lpwstr>Duva.Clyburn@cms.hhs.gov</vt:lpwstr>
  </property>
  <property fmtid="{D5CDD505-2E9C-101B-9397-08002B2CF9AE}" pid="4" name="_AuthorEmailDisplayName">
    <vt:lpwstr>Clyburn, Duva L. (CMS/CBC)</vt:lpwstr>
  </property>
  <property fmtid="{D5CDD505-2E9C-101B-9397-08002B2CF9AE}" pid="5" name="_EmailSubject">
    <vt:lpwstr>Postings for the 1/31 broadcast</vt:lpwstr>
  </property>
  <property fmtid="{D5CDD505-2E9C-101B-9397-08002B2CF9AE}" pid="6" name="_NewReviewCycle">
    <vt:lpwstr/>
  </property>
</Properties>
</file>